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875-629F-43BB-A71E-14740597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EF8-DA07-46EA-A1CD-6DD09036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130-3806-491E-AEA9-5B4C22B1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5E2-0DB1-449E-B069-84FAC78B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804-CAA6-4BBF-820F-960BCA23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7A95-335B-433E-B494-57ACE786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7F30-9831-4815-ABCA-8CFC20E4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B52C-D87E-4885-8460-47245FDD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2E51-002E-4620-88DE-B94744B8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4CE0-AA1A-4487-BEE2-68EEC48A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330F-DA01-46DE-ABE6-B8ACC35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EEC-717D-4963-AC32-406632B5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B4B3-6DF7-4BFE-B9F0-A847CEF6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D0FC-4837-464A-BB00-E06503FA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E9EF-59B4-4448-92F9-9282998A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2C39-E523-41F1-A152-326D9495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384D-67EF-4FEA-92D1-226135F7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6EF-63E1-4591-85AA-BFF3F60C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2ED-E086-4C6A-BA26-6D4C7EE7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620-ACB3-47C0-B737-DBCDBCAF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9E0-7E92-4FE2-AD22-D8CB9D4E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FD9-5B5B-48C8-9AB4-613E192F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769-D8BD-4DA7-A920-8D4C8A13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CFA-F208-47F4-9588-7B2EF64C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4635-C031-4889-9045-FA3FDB4FFF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DCC6-701B-4410-A8B1-F52191BCC0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ising Entrepreneurial Capital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8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ting the Exit Strateg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e diligence requests (4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rporate minute books and documents (e.g. articles of incorporation, by-laws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mmary of all outstanding or pending litigation with an accompanying letter from the company's lawyer explaining the expected outcome of each lawsuit; a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cal and future budgets along with actual figures (which will be required to assess management's ability to produce accurate forecasts and to determine future expectations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w Tech's Criteria for Inves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Capital Required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$1.575 million, $600,000 in venture capital for expansion of an established, profitable compan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uld prefer an active investor with knowledge of the computer industry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Geography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loser the investor, the bette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als of investor mee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ke a strong first impress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ablish good rappor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 prepared for specific and probing questions on all aspects of the company and the propos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 what questions to ask the inves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ected ques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competitive advantage?"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ze of your market, and how do you know?"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"Why do you think this company has the ability to achieve rapid and sustained growth in such a competitive industry?"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"What are your financial forecasts based on? How liquid will the company be during the expansion? What do you expect gross margins to be?"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gotiating ba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opening positions. bottom-line terms and conditions, and acceptable compromi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ult with your financial advisor and lawyer throughout the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nk of the investor's point of view when determining their terms and negotiating strategy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y open-minded and flexi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 for common ground with the invest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actical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roach negotiations from a win-win perspective while keeping the investor's position in mind as options are considere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most everything is up for negotiation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gotiations may take time and several meeting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e diligence requests (1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w Tech's financial statements for the last three year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years of income tax returns and payment schedule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ails of banking arrangement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e diligence requests (2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mmary (and copies) of the main contracts in place (contracts, leases, patents, insurance policies, mortgage documents, sales or supply contracts, etc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of key customers with historical and projected sales data and order backlog, if availab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itional industry information on the computer power module market and related technology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e diligence requests (3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t of suppliers and backup suppliers (if part of the needs is a specialty product or servi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turns and warranty data to assess the quality of the product and to assess any contingent liabilities related to the product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ent appraisals of tangible asset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organization char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23:10:37Z</dcterms:created>
  <dc:creator>John B. Vinturella</dc:creator>
  <dc:description/>
  <dc:language>en-US</dc:language>
  <cp:lastModifiedBy>John B. Vinturella</cp:lastModifiedBy>
  <dcterms:modified xsi:type="dcterms:W3CDTF">2003-05-08T16:16:02Z</dcterms:modified>
  <cp:revision>26</cp:revision>
  <dc:subject/>
  <dc:title>Raising Entrepreneurial Capital </dc:title>
</cp:coreProperties>
</file>